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F3F-A0AA-40A4-A000-F51D7FA4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F1F-A736-4FE4-B04B-BE6204A0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C67-761B-4DD9-9467-E20EA533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B4DD-E6B9-404B-9BDC-801B8DF2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901-0503-4FCF-A310-4D3AB89C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579-0520-4AFC-A6CC-83E916CA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4AF-5274-4537-8FEA-3CB7A93E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50C-4816-4C62-B50D-FCFF42AE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112-5DAD-444F-B673-845CA3CF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48E-8261-4038-8F1C-ED4C6F53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329-841C-4CED-A17B-64B1320A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664F-D915-449A-AD4E-562945C5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E1FF-31BC-4C7D-9454-8C39A6D9F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9-2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make connections to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picture remind you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at experience make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se notes in your bind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xt-to-Text conn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you read reminds you of something else you read (book, poem, newspaper, letter), watched (t.v., internet), or maybe heard (radio broadcast, commercial, new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4981680"/>
            <a:ext cx="2438280" cy="187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81680" y="44197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52680" y="4724280"/>
            <a:ext cx="2714760" cy="16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134120" y="0"/>
            <a:ext cx="2009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se notes in your bind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xt-to-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you read reminds you of something going on in the worl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62600" y="1371600"/>
            <a:ext cx="2381400" cy="192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581280" y="3511440"/>
            <a:ext cx="48769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-to-Self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in the text reminds you of a personal experience or the experience of someone you k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se notes in your bind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392200" cy="327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19520" y="3733920"/>
            <a:ext cx="3504960" cy="2616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77120" y="3809880"/>
            <a:ext cx="2427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 Is the Dark-Haired On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model CONNEC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the students to the front of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loud, begin reading on page 22, starting with the paragraph beginning with “Papa opened the front door to the soldi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ee arrows with orange highlights, stop and tell the kids about the connections I made.  I have included an example of each type of connection.  Write the connections I made on a post-it note and attach it to the CHART PAPER graphic organizer.  For the so what part, have them figure out how the connection helps the reader better understand EITHER a character’s actions, character’s feelings, the main conflict, OR the setting. JUST PICK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reading when you get to page 24.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c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609480"/>
          <a:ext cx="9144000" cy="6418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ext says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eminds me of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What?  This helped me understand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you would be so kind as to tell me where the Rosens are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ary of Anne Fran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Nazi soldiers find the family in hiding.  They were taken to concentration camps and many were kill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 people’s lives changed during this time.  Fear overcame all peo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crumpled it into her hand and closed her fingers tightly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many Jewish people went into hiding and had to hide anything that symbolized their religio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in general hide who they a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need to look out for their safety first and that we sometimes hide who we are in order to protect oursel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you have this blonde haired daughter…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sister often gets asked about her blonde hair because my parents, sister, and I all have dark hair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get their feelings hurt when they are signaled out for differen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read your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b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day, fill out this graphic organi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be thoughtful about your connect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 Five Min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k the kids to share their connections with the clas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14:32Z</dcterms:created>
  <dc:creator>Administrator</dc:creator>
  <dc:description/>
  <dc:language>en-US</dc:language>
  <cp:lastModifiedBy>Administrator</cp:lastModifiedBy>
  <dcterms:modified xsi:type="dcterms:W3CDTF">2010-09-15T14:22:45Z</dcterms:modified>
  <cp:revision>8</cp:revision>
  <dc:subject/>
  <dc:title>Do Now 9-21 I can make connections to text.</dc:title>
</cp:coreProperties>
</file>